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902C-789C-4B59-8C0A-D184719D1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0E7F-0D27-4286-BAA3-FB034FB6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87A4-60EF-4387-8283-D48BCB59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C419-006C-4077-9CC4-AADE581C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E920-C93B-4EFC-A47D-987E8BC4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B1FD-4A23-493F-9F25-85DA78A9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1ABC-35E3-4EFB-BB69-D9B6224C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D758-476B-44EF-A728-03FA5D7D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2373-B3B8-46A2-8C3A-41AD9ABE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1099-077F-47D7-939F-6976F18A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8036-D4D8-4314-8FF0-D4598E4A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96AA-D73F-48B6-888B-F70E41FB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B974-7178-4A1D-A3F6-04345A2B3B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219240"/>
            <a:ext cx="8915400" cy="45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anguage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hunt f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意为“搜寻”、“寻找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I’ve been hunting for you everyw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一直在到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They are hunting for a house to l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们正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寻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出租的房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13:45:12Z</dcterms:created>
  <dc:creator>zhangjunguang</dc:creator>
  <dc:description/>
  <dc:language>en-US</dc:language>
  <cp:lastModifiedBy>zhangjunguang</cp:lastModifiedBy>
  <dcterms:modified xsi:type="dcterms:W3CDTF">2003-08-06T13:45:30Z</dcterms:modified>
  <cp:revision>1</cp:revision>
  <dc:subject/>
  <dc:title>PowerPoint 演示文稿</dc:title>
</cp:coreProperties>
</file>